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5EC-54C3-4F3C-AFBC-8BEDEF90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8FD-8EEE-4010-A29F-274B79DF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6A5-4867-4275-B93E-0D27125B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142-5645-4542-8E09-91921A21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130-EC70-42D7-9B9F-B3C55F7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B1E-B273-4BF0-81B3-266257A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B84-0E11-42EF-ADAA-0B19451D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BD8-329E-4B60-BA31-0050AD0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4B78-5266-483D-A82F-BFA95DA2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A83-77B0-4D4A-9266-9A6A12B1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16F-68EE-48F2-BD5E-82844D26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4B1-AEA4-485F-854B-FE000F26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1133-EE5D-4590-9DDA-B10B429D6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Imper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nton Tea Warehouse, ca. 1800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uropeans with kerchiefs superv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257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um Wars,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6-60: second Opium War (Brit + F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y of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4x-5: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5: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iping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ng Xiuquan (1813-18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hoolteacher, failed bureau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"brother of Jesus Chris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iping: "Great Peac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ctrine: similar to Marx' soci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less, egalitarian society (women, too) prohibited foot b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 education: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mocratic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litary &amp; bureaucratic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mote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441972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successful Due to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actionalism within the Rebellion cause loss of momentum until it is suppressed in 1864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642000" y="380880"/>
            <a:ext cx="2517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bellion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3: captured Nanjing (massac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5: Taipings halted at Bei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6: Taipings threaten 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radical: scholar-gentry sides with Qing regional armies staffed by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0: Taipings limited to Nanj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2: Hong retreats to private life (1864 suic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4: Nanjing retaken - total death toll: 20-3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Qing re-conquers Nanjing, 18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315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860 Treaty of Tianjin (Tients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and French hurting from trade restrictions and limitations on their missionary activities take ac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ing new attacks against China and seize Beijing in 1860 destroying the imperial summer pala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Included: legalization of opium, opening of additional ports to foreign and cessions of the peninsula of Kowloon.  Other areas ceded to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the Qi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ed at the end of th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4, the Qing lose war to Japan over the Kore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7 – Germany exploits an incident including the death of 2 missionaries to demand territories and trade Shandong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demand for territories of other powers due to the fear of losing out on raw materials and China’s potenti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 demands and gets Port Arthur and Great Britain further demands coaling stations in the North of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 cannot reform fast enough to maintain political power against the W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67080" y="380880"/>
            <a:ext cx="44960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pen Door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ge 6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205740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“gentleman’s policy” that allowed Britain, France, Germany , Russia, the United States and Japan to have spheres of influence or economic zones on the cost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ept from U.S. Secretary of State John H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50760"/>
            <a:ext cx="7696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form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: "Society of Righteous and Harmonious Fist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xer rebe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fore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ed by Empress dowager Ci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0: 140,000 besiege Beij. foreign embas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crushed by British, French, Russian, US,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 &amp; Japanese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dited Qing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08 Cixi dies, succeeded by 2-year-old Puy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1: revolution topples Qing Dyna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010280" y="3886200"/>
            <a:ext cx="199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600200"/>
            <a:ext cx="8610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g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u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271 - 13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368 - 16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ch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sty (1644 - 19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sion and new crops: demographic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50 mio. ca. 1650 to 300 mio. ca. 18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s Kangxi (b.1654, r. 1661-1723): 61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ngzheng (b. 1678, r. 1723-17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ianl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711-1799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. 1736-1796): 6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ese Dynas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262400" cy="4876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62520" y="1752480"/>
            <a:ext cx="2552760" cy="20638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0" y="228600"/>
            <a:ext cx="2043000" cy="242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800600" y="3962520"/>
            <a:ext cx="1608120" cy="266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20890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the Chinese fail to make the leap from the 'commercial revolution' of the later Ming period (1600-1650) to an 'industrial revolution' of the kind that began in the West a century l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em for arts: little emphasis on material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rominence of engineers and inv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 ethos (vs. dissent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no admiration for entrepre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tention of the old, not invention of the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539100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uniform system of weights and measures – primitive banking compared to Euro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per money aband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ect of infrastructure including the Grand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traders and nations (including US and Japan) have access to Chinese ports and trade until the rise of the Communist government in 1949 under the leadership of Mao Zed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while, China is in a civil war between Communism led first by Sun Yet-Sen then Mao and the Nationalists lead by dictator Chiang Kai-shek (Jiang Jieshi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30040"/>
            <a:ext cx="75438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27600" cy="359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43480" y="533520"/>
            <a:ext cx="37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: World Superpower till 17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486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5 Chinese ship: 4x length, 9x c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of Columbus's Santa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Arial"/>
              </a:rPr>
              <a:t>Qing China (Manch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Cant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Canton=Guangzh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13 warehouses on Pearl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75 miles from Macao &amp;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1759-18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trading system imposed by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all foreign trade highly regulate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confined to Can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•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tea</a:t>
            </a:r>
            <a:r>
              <a:rPr b="0" lang="en-US" sz="2800" spc="-1" strike="noStrike">
                <a:solidFill>
                  <a:srgbClr val="6699ff"/>
                </a:solidFill>
                <a:latin typeface="Arial"/>
              </a:rPr>
              <a:t>, silk, porcelain, handcrafts (lacquer ware) paid for with si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5146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ianlong (Ch’ien Lung)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ter to George III (179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China has no need to import goods produced by outside barbaria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We possess all things. I see no value on objects strange or ingenious, and have no use for your country's manufactures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r vessels touch the shore, your merchants will assuredly never be permitted to land or to reside there, but will be subject to instant expulsion. … Tremblingly obey and show no negligence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242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George Macartne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12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usin of king, ambassador to Russia, and governor of Mad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ord Macartney's mission,1793:  textiles, cutlery, pottery, clocks, scientific gadgets, musical instr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mperor refused to kowtow; George sent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921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pium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ountry trade": British Indian op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nd into China to balance exchange, esp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9: Lin Zexu's letter to Queen Vic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39-1842 (first) Opiu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y of Nanking: indemnity, Hong Ko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fair tariff," 5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3: Brits not subject to Chinese law extraterritori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28800" cy="129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81080" cy="131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876760" cy="178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172200" y="4419720"/>
            <a:ext cx="25909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e in T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na and Eng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9: 200 chests (60 kg=133 lbs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7: 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: 4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: 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5: 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1: 16,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8: 4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9: 20,283 chests destroyed by Lin Zex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0: 30,000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7: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5019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6:23:00Z</dcterms:created>
  <dc:creator>ripkensa</dc:creator>
  <dc:description/>
  <dc:language>en-US</dc:language>
  <cp:lastModifiedBy>ripkensa</cp:lastModifiedBy>
  <dcterms:modified xsi:type="dcterms:W3CDTF">2010-03-05T23:16:49Z</dcterms:modified>
  <cp:revision>3</cp:revision>
  <dc:subject/>
  <dc:title>Chinese Imperialism</dc:title>
</cp:coreProperties>
</file>